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0A4-C6F5-4FC4-ACEE-A8731207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51E-FB44-448B-9BA4-50155D1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581-E725-4C7B-8998-7CC86270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C5C-2626-4D20-8398-1A4515E4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BEB-394C-47DE-B12E-C9EE33A5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CCF-3C05-4BD0-9CC9-23FC308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14B-BB32-4EB9-A933-CD5F09A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B93-8319-4DE6-AE63-4A2C003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CFB-9866-4DBC-AC94-AB6F1BF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CCB-1AFF-4DC9-B2D8-6BE2933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36D-D9A4-4A89-A7C7-4AF8AA6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DDD-0F36-4D06-ACE5-039AB2A8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F77BE-68E9-4190-B8E3-085AF1BBA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D5CA8-E729-449F-9006-9157E7164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nowman Cvr.jpg"/>
          <p:cNvPicPr/>
          <p:nvPr/>
        </p:nvPicPr>
        <p:blipFill>
          <a:blip r:embed="rId1"/>
          <a:stretch/>
        </p:blipFill>
        <p:spPr>
          <a:xfrm>
            <a:off x="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2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2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14560" y="2712960"/>
            <a:ext cx="2717640" cy="10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547e"/>
                    </a:gs>
                    <a:gs pos="100000">
                      <a:srgbClr val="548dd4"/>
                    </a:gs>
                  </a:gsLst>
                  <a:lin ang="13500000"/>
                </a:gra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Lucida Bright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547e"/>
                  </a:gs>
                  <a:gs pos="100000">
                    <a:srgbClr val="548dd4"/>
                  </a:gs>
                </a:gsLst>
                <a:lin ang="13500000"/>
              </a:gra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38:09Z</dcterms:created>
  <dc:creator>Beverly Moshier</dc:creator>
  <dc:description/>
  <dc:language>en-US</dc:language>
  <cp:lastModifiedBy>Beverly Moshier</cp:lastModifiedBy>
  <dcterms:modified xsi:type="dcterms:W3CDTF">2012-02-06T12:46:29Z</dcterms:modified>
  <cp:revision>1</cp:revision>
  <dc:subject/>
  <dc:title>Slide 1</dc:title>
</cp:coreProperties>
</file>